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5.jpeg" ContentType="image/jpeg"/>
  <Override PartName="/ppt/media/image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FDF-1745-4699-A4FF-23FAEF99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406-D230-48E0-8E8E-E58C54E1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82F-CA11-4503-BA30-3B37B494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F19-6814-449E-B11C-426D622B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072B-204E-457C-9D27-C162D954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5A7-8902-436C-B458-79E57D5A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BC5-AF6A-4185-BF84-81A27662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548F-99B8-4680-AA27-D71A739C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579C-F6F0-43E4-957C-386CD84F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565B-E393-4F24-B053-9847094E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E25A-6FA0-4853-BDBF-8EDBADC3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748-5799-44CF-AF53-CDDEBC0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69F3-A089-4BA4-8C2C-90FD106E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061F-31C3-4E6D-805B-2C1738B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BB8B-2198-4DA1-B58C-26F6034C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2A92-D536-4E54-9C33-D25B3BE7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7AB4-D5C4-4F26-A43D-1504DAF7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BC1E-F9B0-41D6-BE58-2FC0C141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71B06-892D-4642-9659-C8E726FF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3FFA-1E82-494F-90E2-60F6AE3C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815A-B376-4A02-B229-90BD3390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FA9D-D8AE-4899-B196-CA2A9EE8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9D7-5743-464E-B8FD-015E6A13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5E8A-EDA6-4D44-97D4-A724CB23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1579-ACE4-4843-9E54-8F748D74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E2C9-23F5-47CD-84DA-B5BEC04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4120-D886-498D-8021-6C2B96E1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D7FF-5E5D-4093-ADB2-9942C215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5564-92C8-4008-9F45-C1D5A4EA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0D24-864C-4CDA-BD0C-274FB06A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380A4-D7EA-4A00-AE33-97B48828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63161-F640-4098-B34C-539A70A6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844EF-4249-4A70-AE02-5380F77E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EA2-D6FE-454F-B49D-3F208330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8DF65-F307-4C52-8B20-3B35C3A3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216AA-2FA8-48D5-8FBC-6A4F0EE1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91098-61D6-45FB-8E91-2E4A5E7A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6C86E-1E9D-4DC5-B6DF-3ADC06BA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A2AD3-DE36-40C7-B2FD-9E1CF4F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435A6-CD34-447F-BE33-72E12414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F5EC0-4773-495E-84E6-60F91562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14049-A2B5-485F-846E-0F0602A3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B9B9F-411D-407C-9FCA-4A176FC5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82B-AF7D-48F7-8DDE-D96DD0DD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E60-76D0-4DDC-BBFE-27ECDC4C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96C-A918-42BF-82E3-34790A76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831-F451-45A2-AE69-AE5012AC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75A-1C30-41E4-8E45-8764511E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71D7-7451-4A56-BB92-0C68CF7676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FA07-682F-4AAD-B87B-19FE41663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C992-FE22-407C-A68D-221C4FC39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40C-DD51-4834-AB9E-CA9F5B7E8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1643040"/>
            <a:ext cx="91440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ПАТОЛОГИЈА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ТЕМПОРОМАНДИБУЛАРНОГ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ЗГЛО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1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е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ни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ир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рши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роз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рши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г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истич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станак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иброз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ш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и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гур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шл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реверзибил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лумзгл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с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преч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непосред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миривањ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ут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ков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паљ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треб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че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тивни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жба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цијент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вету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ж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јав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ол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нз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15-20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у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оде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чу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28760" y="1600200"/>
            <a:ext cx="848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у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паљ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специфичних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хваћ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овилич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pol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arthritis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rheu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spond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loarth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anc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lopoetica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morbus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Bechtere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psori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TMJ_arthritis"/>
          <p:cNvPicPr/>
          <p:nvPr/>
        </p:nvPicPr>
        <p:blipFill>
          <a:blip r:embed="rId2"/>
          <a:stretch/>
        </p:blipFill>
        <p:spPr>
          <a:xfrm>
            <a:off x="5572080" y="3071880"/>
            <a:ext cx="3357720" cy="3338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РЕУМАТОИД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АРТР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о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стант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чав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ма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специфич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ртрити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 постеп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сец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а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чет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рактеристич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уматск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ртритис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о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еме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чавај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е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ћ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ле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ч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ди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руг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вљ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тк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учајев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вљ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о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42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РЕУМАТОИД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АРТР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РЕУМАТОИД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АРТР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036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чет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адијум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мет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ме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ндге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нимцим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знапредовал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учајев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струк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ор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ту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пондилоартрити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поети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овонаста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укту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пут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ос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арис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реме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жав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стор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узет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мпт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овиличних зглобов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м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треб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цијен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ма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пут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тернис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уматол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ем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жишт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рап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тернистичк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лан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тре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рад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оматолог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вентив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н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у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клања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ћ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омал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42920" y="121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овил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оорд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ћ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кциј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ter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ideus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teralis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па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њ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л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руг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њо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ртикулар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нкоорд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в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ово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лабавље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су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"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ћ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зрок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д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туберкулар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туберкулар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твара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ут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понта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раћ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вобит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нхро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у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д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к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његов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в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дар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уберкулу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ртикулар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туберкулар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СУБЛУКСАЦИЈ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13840" y="1143000"/>
            <a:ext cx="8929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ронич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ифесту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јача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четк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ифесту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 чуј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ацијен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колину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л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же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едицинск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моћи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стра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лик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ло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рминал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оре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ема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мак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чивн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виц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кутић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5-7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м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ам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з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дностра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раже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драво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 Исп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г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х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ип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за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паж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СУБЛУКСАЦИЈ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СУБЛУКСАЦИЈ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мајућ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блуксациј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ремећај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pterygoideus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lateralis-a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нос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о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ерапији</a:t>
            </a:r>
            <a:r>
              <a:rPr b="0" lang="sr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ежб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писа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ш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hau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1960.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године</a:t>
            </a:r>
            <a:r>
              <a:rPr b="0" lang="sr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цијен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ж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ав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зад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ар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ош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к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так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и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е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лак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твар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лаз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ст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а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чин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преча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вијациј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орени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пр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ев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ран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авету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буд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реди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ог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мерен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дес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дње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олар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а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протно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кретањ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орени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в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ежб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звод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гледал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ну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2-3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у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н</a:t>
            </a:r>
            <a:r>
              <a:rPr b="0" lang="sr-Latn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ерапи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рочит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чје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зрас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ристит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мобилизацио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рав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граничавај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драсл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клерозантн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редста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чем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дикамен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бризга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њ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зазивајућ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ери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паље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сниј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иброз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чим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граничавај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гранич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љив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тпу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могућ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овиличн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љ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мена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м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во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k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i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a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граниче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толошк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м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ље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кстраартикулар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жно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сеудоанкило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k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i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uria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АНКИЛ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78688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рскав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ут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ум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ко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ркав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писа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hropathia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ormans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рект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так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рж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оре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так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шта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аме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варањ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ранулацио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иброз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шта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рашћења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лимич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чува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иброз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у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ети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актор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н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лађ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соба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F2"/>
          <p:cNvPicPr/>
          <p:nvPr/>
        </p:nvPicPr>
        <p:blipFill>
          <a:blip r:embed="rId2"/>
          <a:srcRect l="0" t="0" r="0" b="9101"/>
          <a:stretch/>
        </p:blipFill>
        <p:spPr>
          <a:xfrm>
            <a:off x="2214720" y="4429080"/>
            <a:ext cx="550044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АНКИЛ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АНКИЛ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920" y="121428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ва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сив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гитал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нсверзал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вц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м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а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обањ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ви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аз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бедљи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толош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мен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ерациј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р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могућ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формите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ша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вршетк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ст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ерациј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могућава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ече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ногоброј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риоз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уб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иброз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дилектом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стрању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кив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м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а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об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нов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постављ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дуци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ЕМПОРОМАНДИБУЛАР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ЗГЛ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0920" y="1571400"/>
            <a:ext cx="5715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Доњовилични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једини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покретни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главе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састав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доњовиличног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улазе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put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врж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uberculum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rticular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ч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fossa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r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лу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discu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rticular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ау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apsula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rticularis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новијал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embrana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novial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tmj1"/>
          <p:cNvPicPr/>
          <p:nvPr/>
        </p:nvPicPr>
        <p:blipFill>
          <a:blip r:embed="rId2"/>
          <a:stretch/>
        </p:blipFill>
        <p:spPr>
          <a:xfrm>
            <a:off x="5643720" y="2214720"/>
            <a:ext cx="3335040" cy="3357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-1071000" y="-4287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membrana</a:t>
            </a: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novialis</a:t>
            </a: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Темпоромадибуларни поремећаји дефини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шу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се као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група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орофацијалних поремећаја с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а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бол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ом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у преаурикуларном подручју,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виличним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зглобовима (ТМЗ-у) или жв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каћим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мишићима с ограничењима у распону и девијацијама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покрета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доње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вилице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звуковима ТМЗ-а т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о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ком жвак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000" spc="-1" strike="noStrike">
                <a:solidFill>
                  <a:srgbClr val="002060"/>
                </a:solidFill>
                <a:latin typeface="Arial"/>
              </a:rPr>
              <a:t>TMP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 (темпоромандибулар</a:t>
            </a: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ни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 бол)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је уверљиво најчешћ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бол у орофацијалном подруч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511520" y="3780000"/>
            <a:ext cx="2065320" cy="2681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2451240" y="3780000"/>
            <a:ext cx="2144520" cy="27176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7"/>
          <p:cNvSpPr/>
          <p:nvPr/>
        </p:nvSpPr>
        <p:spPr>
          <a:xfrm>
            <a:off x="785880" y="-712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ЕМПОРОМАНДИБУЛАРНИ ПОРЕМЕЋА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14200" y="1357200"/>
            <a:ext cx="4789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Узроци темпоромандибуларног бола могу бит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оремећај оклуз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дубоки болни 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на</a:t>
            </a: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дражај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арафункц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оналне</a:t>
            </a: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 актив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сихолошки проблеми повезани с емоционалним стрес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сихијатријски поремећа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5102280" y="1365120"/>
            <a:ext cx="3438360" cy="46641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ЕТИОЛОГИЈА ТЕМПОРОМАНДИБУЛАРНОГ ПОРЕМЕЋ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Темпоромандибуларни бол се јавља  код 4-12% опште популације  жене: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мушкарци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2:1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Знаци и симптоми достижу максимум код особа старости 20-40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4870440" y="1444680"/>
            <a:ext cx="3597120" cy="47847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ЕПИДЕМИОЛОГИЈА ТЕМПОРОМАНДИБУЛАРНОГ ПОРЕМЕЋ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85840" y="1500120"/>
            <a:ext cx="88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Необични звукови 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- ш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кљоцање, пуцкетање или шкрипање приликом отварања уста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Звукови зглоба се деле у шкљоцање или крепита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Шкљоцање је један звук кратког трајања који је релативно глас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К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репитације </a:t>
            </a: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су 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мултипли звукови који се описују као шкрипа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Бол у уху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2060"/>
                </a:solidFill>
                <a:latin typeface="Cambria"/>
              </a:rPr>
              <a:t>Јутарња укоченост и болна осетљивост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Отежано жвакање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Главобоље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граничено покретање 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ви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924600" y="4065480"/>
            <a:ext cx="1895400" cy="24386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СИМПТОМИ ТЕМПОРОМАНДИБУЛАРНЕ ДИСФУН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00080" y="15714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РАДИОГРАФСК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857240" y="3071880"/>
            <a:ext cx="5224680" cy="3093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0" y="-71280"/>
            <a:ext cx="9144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ДИЈАГНОЗА ТЕМПОРОМАНДИБУЛАРНИХ ДИСФУНК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14240" y="1428480"/>
            <a:ext cx="8072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Лечење се темељи на физикалној терапији, лековима и употреби оклузалних 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сплинтова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Физикална терапија се дели на ону која смањује бол и на ону која побољшава функ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В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лажн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е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и топл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е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облог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е –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10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-15 минута не дуже од 30 минута</a:t>
            </a:r>
            <a:r>
              <a:rPr b="0" lang="sr-Latn-R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Хладне облоге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 -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не дуже од 5-7 мин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С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прејеви (етил 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х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лорид и флуорометан)</a:t>
            </a:r>
            <a:r>
              <a:rPr b="0" lang="sr-Latn-R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А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налгети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ци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нестероидни антиинфламатор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А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спирин, ацетаминофен и ибупроф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Антиинфламаторне лекове је потребно узимати 1-2 недеље како би постигли делотворне концентрације у кр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0" y="-7128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ffffff"/>
                </a:solidFill>
                <a:latin typeface="Cambria"/>
              </a:rPr>
              <a:t>ЛЕЧЕЊЕ ТЕМПОРОМАНДИБУЛАРНИХ ДИСФУНК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Оклузални сплинтови у 75% случајева редукују бол</a:t>
            </a:r>
            <a:r>
              <a:rPr b="1" lang="sr-Latn-R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mbria"/>
              </a:rPr>
              <a:t>Код пацијената са хроничним </a:t>
            </a:r>
            <a:r>
              <a:rPr b="1" i="1" lang="pl-PL" sz="2000" spc="-1" strike="noStrike">
                <a:solidFill>
                  <a:srgbClr val="002060"/>
                </a:solidFill>
                <a:latin typeface="Cambria"/>
              </a:rPr>
              <a:t>ТМ</a:t>
            </a:r>
            <a:r>
              <a:rPr b="1" i="1" lang="pl-PL" sz="2000" spc="-1" strike="noStrike">
                <a:solidFill>
                  <a:srgbClr val="002060"/>
                </a:solidFill>
                <a:latin typeface="Arial"/>
              </a:rPr>
              <a:t>P</a:t>
            </a:r>
            <a:r>
              <a:rPr b="1" i="1" lang="pl-PL" sz="2000" spc="-1" strike="noStrike">
                <a:solidFill>
                  <a:srgbClr val="002060"/>
                </a:solidFill>
                <a:latin typeface="Cambria"/>
              </a:rPr>
              <a:t>,</a:t>
            </a:r>
            <a:r>
              <a:rPr b="1" lang="pl-PL" sz="2000" spc="-1" strike="noStrike">
                <a:solidFill>
                  <a:srgbClr val="002060"/>
                </a:solidFill>
                <a:latin typeface="Cambria"/>
              </a:rPr>
              <a:t> ова терапија се може употпунити 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психолошком потп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когнитивно-бихевиоралном терап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релаксационом терап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малим дозама трицикличних антидепре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00"/>
                </a:solidFill>
                <a:latin typeface="Cambria"/>
              </a:rPr>
              <a:t>Хируршка терапија </a:t>
            </a:r>
            <a:r>
              <a:rPr b="1" lang="sr-CS" sz="2000" spc="-1" strike="noStrike">
                <a:solidFill>
                  <a:srgbClr val="990000"/>
                </a:solidFill>
                <a:latin typeface="Cambria"/>
              </a:rPr>
              <a:t>обољења </a:t>
            </a:r>
            <a:r>
              <a:rPr b="1" lang="pl-PL" sz="2000" spc="-1" strike="noStrike">
                <a:solidFill>
                  <a:srgbClr val="990000"/>
                </a:solidFill>
                <a:latin typeface="Cambria"/>
              </a:rPr>
              <a:t>темпоромандибуларног бола  није терапијска опција</a:t>
            </a:r>
            <a:r>
              <a:rPr b="1" lang="pl-PL" sz="2000" spc="-1" strike="noStrike">
                <a:solidFill>
                  <a:srgbClr val="99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2"/>
          <a:srcRect l="0" t="0" r="1762" b="0"/>
          <a:stretch/>
        </p:blipFill>
        <p:spPr>
          <a:xfrm>
            <a:off x="5715000" y="4214880"/>
            <a:ext cx="2994120" cy="2187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rcRect l="0" t="0" r="2142" b="4298"/>
          <a:stretch/>
        </p:blipFill>
        <p:spPr>
          <a:xfrm>
            <a:off x="5643720" y="1571760"/>
            <a:ext cx="2982600" cy="2338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0" y="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ffffff"/>
                </a:solidFill>
                <a:latin typeface="Cambria"/>
              </a:rPr>
              <a:t>ЛЕЧЕЊЕ ТЕМПОРОМАНДИБУЛАРНИХ ДИСФУНК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КОНТУЗИЈЕ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ректн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директн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а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кол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к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ног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директ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да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вет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ша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хра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штеде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48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асо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добије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у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вету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п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ло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брза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сорп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ли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ш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кут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ме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плот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вету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ж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РАУМАТСК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ОШТЕЋЕ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ДИСК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раум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рочит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дар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еде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рад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његов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цепа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чем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р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фрактур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ом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RS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tmj_anatomy"/>
          <p:cNvPicPr/>
          <p:nvPr/>
        </p:nvPicPr>
        <p:blipFill>
          <a:blip r:embed="rId2"/>
          <a:srcRect l="0" t="0" r="0" b="3937"/>
          <a:stretch/>
        </p:blipFill>
        <p:spPr>
          <a:xfrm>
            <a:off x="2928960" y="3624120"/>
            <a:ext cx="32860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ПРЕД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ДИСК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5286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воје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дње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лак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usculu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pter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goideu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lateral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лач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за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put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uberculum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rticular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pitulum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с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ира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онт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граничени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15032W"/>
          <p:cNvPicPr/>
          <p:nvPr/>
        </p:nvPicPr>
        <p:blipFill>
          <a:blip r:embed="rId2"/>
          <a:stretch/>
        </p:blipFill>
        <p:spPr>
          <a:xfrm>
            <a:off x="5357880" y="2571840"/>
            <a:ext cx="37861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ЕМПОРОМАНДИБУЛАРНИ  ЗГЛ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TMJ%20joint"/>
          <p:cNvPicPr/>
          <p:nvPr/>
        </p:nvPicPr>
        <p:blipFill>
          <a:blip r:embed="rId2"/>
          <a:stretch/>
        </p:blipFill>
        <p:spPr>
          <a:xfrm>
            <a:off x="990720" y="1523880"/>
            <a:ext cx="71434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ЗАД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ДИСК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д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ау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вој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е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л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лиминиса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pterigoideusa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ateralisa</a:t>
            </a:r>
            <a:r>
              <a:rPr b="0" i="1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уч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кљешт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немогућав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ормал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творени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ђ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ут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мптом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нош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ау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цијена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в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ећа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ш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ре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јав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ђ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граниче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РАУМАТСК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МАНДИБУ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терал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горе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ктич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евш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вил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а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тк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р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писа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РАУМАТСК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МАНДИБУ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3840" y="1285560"/>
            <a:ext cx="8572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остра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стра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д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беркулу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ртикула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уч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в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иксир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2200" spc="-1" strike="noStrike">
                <a:solidFill>
                  <a:srgbClr val="000000"/>
                </a:solidFill>
                <a:latin typeface="Cambria"/>
              </a:rPr>
              <a:t>tuberculum auricul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чи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емогуће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знат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зро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ч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ев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ме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оматолош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тервен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овори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абитуел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линич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и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абитуел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уматс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ет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абитуел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ма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ат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амне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у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гађа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врш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у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ЈЕДНОСТРАН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о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уматс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2200" spc="-1" strike="noStrike">
                <a:solidFill>
                  <a:srgbClr val="000000"/>
                </a:solidFill>
                <a:latin typeface="Cambria"/>
              </a:rPr>
              <a:t>tuberculum auriculare</a:t>
            </a:r>
            <a:r>
              <a:rPr b="0" i="1" lang="sr-Latn-RS" sz="1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и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раже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вија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мерање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ент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лпи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з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ж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вучен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клуз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е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и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ршт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вљ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image141"/>
          <p:cNvPicPr/>
          <p:nvPr/>
        </p:nvPicPr>
        <p:blipFill>
          <a:blip r:embed="rId2"/>
          <a:stretch/>
        </p:blipFill>
        <p:spPr>
          <a:xfrm>
            <a:off x="1357200" y="4643280"/>
            <a:ext cx="3262320" cy="1874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image143"/>
          <p:cNvPicPr/>
          <p:nvPr/>
        </p:nvPicPr>
        <p:blipFill>
          <a:blip r:embed="rId3"/>
          <a:stretch/>
        </p:blipFill>
        <p:spPr>
          <a:xfrm>
            <a:off x="4786200" y="4643280"/>
            <a:ext cx="2973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ОБОСТРАН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остра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лаз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2600" spc="-1" strike="noStrike">
                <a:solidFill>
                  <a:srgbClr val="000000"/>
                </a:solidFill>
                <a:latin typeface="Cambria"/>
              </a:rPr>
              <a:t>tuberculum auricul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станк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остра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еж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могу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е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амнестичк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датке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метрич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ор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елос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мер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до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жљив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тиск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рад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едерир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клуз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ремећ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тал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пертогнат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нуд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геније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з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д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вуче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з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м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0920" y="1189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рад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сн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к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р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и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едећ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чи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деће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врст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зглавље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држа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систен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лче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ављ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риз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ши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ла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а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ети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ухва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екстраорал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аз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наж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лач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до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т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го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стра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ушава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рем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аћ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в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рад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ма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ру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Luxation2"/>
          <p:cNvPicPr/>
          <p:nvPr/>
        </p:nvPicPr>
        <p:blipFill>
          <a:blip r:embed="rId2"/>
          <a:srcRect l="0" t="0" r="0" b="5911"/>
          <a:stretch/>
        </p:blipFill>
        <p:spPr>
          <a:xfrm>
            <a:off x="2571840" y="4848120"/>
            <a:ext cx="39956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ПРЕЛОМИ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КОНДИЛАРНОГ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НАСТАВ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ављај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олова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руг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ок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вај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рактурира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стој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(caput mandibulae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(collum mandibulae)</a:t>
            </a:r>
            <a:r>
              <a:rPr b="0" i="1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еханизм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скључив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ндиректан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ич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јству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раде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ласификуј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1)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о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укасцион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sr-Latn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aps-39-291-g007-l"/>
          <p:cNvPicPr/>
          <p:nvPr/>
        </p:nvPicPr>
        <p:blipFill>
          <a:blip r:embed="rId2"/>
          <a:stretch/>
        </p:blipFill>
        <p:spPr>
          <a:xfrm>
            <a:off x="2071800" y="4714920"/>
            <a:ext cx="5000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ПРЕЛОМИ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КОНДИЛАРНОГ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НАСТАВКА</a:t>
            </a:r>
            <a:r>
              <a:rPr b="1" lang="sr-Latn-RS" sz="3400" spc="-1" strike="noStrike">
                <a:solidFill>
                  <a:srgbClr val="ffffff"/>
                </a:solidFill>
                <a:latin typeface="Cambria"/>
              </a:rPr>
              <a:t> -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класифика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280" y="1332000"/>
            <a:ext cx="900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8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латив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рактурн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иниј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инеар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пре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имптоматологиј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скудн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рауматск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лаб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зражен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ремећај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достај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ним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ав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јагноз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пућуј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ушај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тварањ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ва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локацијом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рст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ок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олова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енталн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г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протн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мфиз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гулу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дијал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атерал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ре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Разл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јчешћ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дијал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ст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пој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m. pterygoideus lateralis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ат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уксацио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латив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тк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т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х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линич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ли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ражениј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тходних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ушт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н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ам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ат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игаменат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ЛЕЧЕЊЕ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ПОВРЕДА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ДОЊЕ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ВИЛИЦЕ</a:t>
            </a:r>
            <a:r>
              <a:rPr b="1" lang="sr-Latn-CS" sz="32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КОНД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НАСТ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7120" y="1999800"/>
            <a:ext cx="850104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збор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метод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ечењ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фрактур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доњ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вилиц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н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завис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сам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од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врст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окализациј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прелом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,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општег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стањ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пацијент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,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већ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од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број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стањ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зуб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Конзервативн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Хируршк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КОНЗЕРВАТИВНО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ЛЕЧЕЊЕ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ПОДРАЗУМ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I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претход</a:t>
            </a:r>
            <a:r>
              <a:rPr b="0" lang="sr-RS" sz="3200" spc="-1" strike="noStrike">
                <a:solidFill>
                  <a:srgbClr val="002060"/>
                </a:solidFill>
                <a:latin typeface="Cambria"/>
              </a:rPr>
              <a:t>н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е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м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II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ре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III -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имоб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Archbars_Inter-Maxillary_Fixation-741x558"/>
          <p:cNvPicPr/>
          <p:nvPr/>
        </p:nvPicPr>
        <p:blipFill>
          <a:blip r:embed="rId2"/>
          <a:stretch/>
        </p:blipFill>
        <p:spPr>
          <a:xfrm>
            <a:off x="4643280" y="3286080"/>
            <a:ext cx="31086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ОБО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715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ћност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личит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атолошк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оце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ч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ежа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њихов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дел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јектив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оме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м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ункционалн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мар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рганс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чи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следиц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м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ртр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с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след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мар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след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ункционалн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оматогнат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сте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image001"/>
          <p:cNvPicPr/>
          <p:nvPr/>
        </p:nvPicPr>
        <p:blipFill>
          <a:blip r:embed="rId2"/>
          <a:stretch/>
        </p:blipFill>
        <p:spPr>
          <a:xfrm>
            <a:off x="1285920" y="4357800"/>
            <a:ext cx="65628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500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пози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избежн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ипула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локацијом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иљ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њиховог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аћањ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ормалн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атомск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зицију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" indent="-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одвојив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мобилизациј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ој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авезн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тходи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20" indent="-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зервативн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врши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уелн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агмен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ис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љеште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кциј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умени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стеновим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иј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мерен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уч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лоцира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агмен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вод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жеље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20" indent="-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рвав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ируршк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- 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и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зервативни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чин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м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би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довољавајућ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агменат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ђ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обичаје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упак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ечењ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их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имобил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стој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новних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мење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обилизацио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редств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еб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пун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звољав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дностав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к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стављањ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њ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ауматизу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уб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ингив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абил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виђе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ем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могућав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хран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ржавањ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бр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хигијен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н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упљ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зиром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ем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ст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редств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мењу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обилиза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финити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УМОР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13840" y="1071360"/>
            <a:ext cx="8858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ч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тк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е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ениг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лиг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од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чу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е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коли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кундар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та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мар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ениг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put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е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ифицирајућ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ондр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иброосте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фицирају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ћ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ксо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еосарк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ондросарк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ф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бросарком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етастазе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ANd9GcSLr8MvgTw4JADi-Y2SOljvZOv_wNI3oOv9967HBB0mq0xp52Ox"/>
          <p:cNvPicPr/>
          <p:nvPr/>
        </p:nvPicPr>
        <p:blipFill>
          <a:blip r:embed="rId2"/>
          <a:stretch/>
        </p:blipFill>
        <p:spPr>
          <a:xfrm>
            <a:off x="4143240" y="3857760"/>
            <a:ext cx="4829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СИМПТОМ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ОБОЉЕ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000" y="1213920"/>
            <a:ext cx="8329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понта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и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лепоочн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лпациј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лпациј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стикаторн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нфр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прахиоидн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раменог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јас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гутањ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понта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и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ог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ежа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пису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граниче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оризонтал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ертикал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вц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кљоца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ов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ш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х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ута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љувачк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сећ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еч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есвестиц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ПРИМАРН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ОБО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9760" y="1714680"/>
            <a:ext cx="7900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натн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ђ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њихов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екундар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јав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ста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арафункционалних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метњ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томатогнатн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истем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лативн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тк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јав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марн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кри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велик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гућност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грешн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ијагноз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брајам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ртритис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рауматск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штећ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умор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ремећа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азвитк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па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њовиличн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кут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Хронич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пецифич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еспецифичн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афил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рептокок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хематоге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дир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коли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per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ontinuitatem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јчеш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итис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ди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урулен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еомијелитис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др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а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гућ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ир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специфич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ут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ротити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1403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г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рем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г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х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вљ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о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а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дир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тиск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рад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вљ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ће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гранич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кре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л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ров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зв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ч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ент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нетијев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ес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мере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б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преми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паљив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ексуда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со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мперату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а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ш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нац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6:47:19Z</dcterms:modified>
  <cp:revision>760</cp:revision>
  <dc:subject/>
  <dc:title>Diapositiva 1</dc:title>
</cp:coreProperties>
</file>